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5B53-4F43-4A35-8F9E-20B659A95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Icebreake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F2D5-7E47-4287-91F2-E49A709F2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ptional Learning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58F8-2CAF-4EF7-B916-D0E5147C4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C6F1-64A4-4352-956A-D6327A86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7D47B-7378-40D2-AB4F-9E3A37D9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134A0-3CE2-49C7-B60F-398CA52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199C7-6F94-493E-A2B1-D47DE45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B2C7A-941C-49B9-81B5-29941BF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4D057-8A8A-411E-B0FD-7EAB8B7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9440B-A62E-42C5-BC8E-19B4D4B8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1191-5FAB-4016-B87B-B4D7BA27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A109E-9619-4B01-A001-E9D134EE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CAAED-DB63-4862-BE23-85832CE6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F4E90-C0A0-4394-BCF4-7C08EDD8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4C34C-D1DA-4194-AD87-9323EEF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3E1ED-1E27-4E35-A92E-040303F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4F916-9FC4-4FB3-AACD-262EC005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13CA1-F41A-4801-B5A1-CDE1A570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4EC0B-EACF-40EA-A975-DDD48AFB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27527-168D-4B88-978B-4AD0A2C1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CCFA1-B666-4BBE-B4B6-40715212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4C98B-99FB-4FBD-BB72-C7497AF4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32F27-4903-4C3F-8B0D-41EBF0CA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9F73C-C8BB-4E30-BF8F-71FA95F5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0F47-956B-43F5-B4DE-C4CB74E5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F6E-B672-4D8B-BA8A-B5CBCC25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15A-3B36-410A-B918-03ED678A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4ED-AF71-4A8D-9A6F-331AC99A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110-3883-46FF-9F64-03EDB88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AD5-94F3-433E-81AF-0CC347D3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B53-FA76-4CF1-A8CD-57D49314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2CE-7450-4179-879C-8F7C9AD8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8A0-BF13-40CB-BAFD-6F78C258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4AA-9F65-488E-B13A-2A9052C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278-2287-4DA3-A979-7B550F33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24F-7CEA-4788-9A75-FE7D28AC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637F-C007-4E03-878E-CDB91EB4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02BB-12B3-41E3-8459-E4279D43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80C2-869B-484B-B8AE-B70A80C6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C3F2-9B61-49AF-B66D-061DB45C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390F-B175-4691-B3D8-B3E77686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BB87-0B69-4B74-9076-39CD4E2A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593E-0D77-4761-A1AE-24F93C7A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D845-785C-4ECC-9CC8-96253F67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5C6F-405E-446A-9C34-2B85758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BCE8-4ADD-45F2-8666-4346C729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43A2-2D3B-43E0-ABE3-9C37D132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CDB9-BAD4-4759-9192-FA91D4B4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E68A-85FB-4F31-8AEF-07DF8576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D508-F919-4411-92FF-1E1CFBA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D565-C140-4280-A10B-9406DF47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C239-E8D1-4476-88D6-D77311A6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20C3-C236-49F3-9880-6C320DE2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F3ECB-5332-4885-A84D-FD4FFC7D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5A04-E7E9-4477-959C-8A7D95A1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48520-8EA3-4970-BDE8-5CAB3B21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12E7-818A-48C2-9D00-E585F7D3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35E1E-7694-4898-A958-5C20493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C1A1-0798-40E7-B888-E74D7E8F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B5D36-B4D6-41A7-AAA1-F090FD6E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B5C0-9ECF-4B9A-97E7-FE22BCF5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49572-F4B5-4D6C-968B-D0024860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ECF17-2659-42AE-AE99-5F87454A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470F-1913-4C38-B1F8-DDDBE6BB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1151-7E6D-4823-BC0B-4F3DCA9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7A27-C688-4A7D-AC1C-78DF05A3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63DB-BC5D-4260-B617-914C3A2B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23763-0A17-48D7-8B96-7011547A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5012B-1FED-40F1-B5B3-101A4803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F0087-68B7-4354-98E9-8155E99E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1297-9846-4F1D-A01C-99E77576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9852F-E96B-4F18-B661-B520E6CE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96508-8585-4CD0-94E2-F61ACF18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7AB12-FCC3-4B63-929D-EA97707A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A36A-ABE5-4E80-B27B-376D95B7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42A53-8482-4A51-8364-82275AC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AF719-851E-4327-89ED-A9663FB4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098D2-ED38-4E39-A755-6EA22E95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AFFA3-2A5A-48CB-92C9-0DFFB309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FFB4E-7C66-480F-9D5E-99489E82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DE06D-E779-4D3D-864D-6054D749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76F6C-DB87-46D0-A1BF-0A9F44E0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F475-AD0D-4D17-A20B-18555569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19323-2942-472C-A29C-44A3CDBE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E4C9F-CCC0-4F49-941A-CEEAF39C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C6A0A-C942-4643-8F63-42A9A4E2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F77F8-7876-443A-BD30-B911F208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9553-9115-4CC9-BAE1-E2BEF044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1EF4B-F923-4AED-8C99-6F91741F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19486-F079-4117-963A-CA67B1DE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1E5BB-C04F-48E2-B493-BC37C86F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9D7EE-E19C-4DB8-91D9-27B826BB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FB278-E378-4B59-A441-A801E9B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C116-AA0F-47DB-81FE-257AF33E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9D241-9361-46BA-8F6E-B920A4AF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CACA3-5D74-4870-8AD1-D49A9E38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EF639-9435-4D93-99C1-25B73D04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BF58B-290D-4CA4-ABD1-A1E30E78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D260C-D699-4248-B32A-3C2D2B55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AAD4-1DF2-411F-957D-F2792C1D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F36C2-5680-441D-9EAF-0D336E6E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C63FA-8C2E-4C3D-B3FD-1E8010D2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063CD-10B9-423B-B94A-793F1361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32ED4-1D64-4E2F-8380-8D9EDC6D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95E41-AC0C-4D10-8764-3BA746C7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D4318-6B67-4FFF-A251-6BC8942E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F95A6-BB98-4DA4-95BE-1D36E889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FBA91-5209-4AA5-BE26-AEB947A1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DC90E-378C-4189-9D8C-8DA31A76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D7DD4-5139-4271-8C94-FB6C6C37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E3538-EBCB-4FFC-B4AB-DFE01A77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0" y="0"/>
            <a:ext cx="949320" cy="6858000"/>
          </a:xfrm>
          <a:prstGeom prst="rect">
            <a:avLst/>
          </a:prstGeom>
          <a:solidFill>
            <a:srgbClr val="186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8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1816-F029-409C-BEF3-43EED3A1B1B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0"/>
          <p:cNvSpPr/>
          <p:nvPr/>
        </p:nvSpPr>
        <p:spPr>
          <a:xfrm>
            <a:off x="1198440" y="0"/>
            <a:ext cx="10993680" cy="960480"/>
          </a:xfrm>
          <a:prstGeom prst="rect">
            <a:avLst/>
          </a:prstGeom>
          <a:solidFill>
            <a:srgbClr val="15af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2" descr=""/>
          <p:cNvPicPr/>
          <p:nvPr/>
        </p:nvPicPr>
        <p:blipFill>
          <a:blip r:embed="rId2"/>
          <a:stretch/>
        </p:blipFill>
        <p:spPr>
          <a:xfrm>
            <a:off x="0" y="6531120"/>
            <a:ext cx="3286080" cy="326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43"/>
          <p:cNvSpPr/>
          <p:nvPr/>
        </p:nvSpPr>
        <p:spPr>
          <a:xfrm>
            <a:off x="1084320" y="6531120"/>
            <a:ext cx="11107800" cy="326880"/>
          </a:xfrm>
          <a:prstGeom prst="rect">
            <a:avLst/>
          </a:prstGeom>
          <a:solidFill>
            <a:srgbClr val="47c0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0" y="0"/>
            <a:ext cx="1203480" cy="960480"/>
          </a:xfrm>
          <a:prstGeom prst="rect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3"/>
          <a:stretch/>
        </p:blipFill>
        <p:spPr>
          <a:xfrm>
            <a:off x="174600" y="104760"/>
            <a:ext cx="889200" cy="750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"/>
          <p:cNvPicPr/>
          <p:nvPr/>
        </p:nvPicPr>
        <p:blipFill>
          <a:blip r:embed="rId2"/>
          <a:stretch/>
        </p:blipFill>
        <p:spPr>
          <a:xfrm>
            <a:off x="10925280" y="0"/>
            <a:ext cx="1266840" cy="993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8" descr=""/>
          <p:cNvPicPr/>
          <p:nvPr/>
        </p:nvPicPr>
        <p:blipFill>
          <a:blip r:embed="rId3">
            <a:alphaModFix amt="61000"/>
          </a:blip>
          <a:stretch/>
        </p:blipFill>
        <p:spPr>
          <a:xfrm>
            <a:off x="0" y="632304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F79A-831C-408F-8DD5-3382360300F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5C25-7EC5-4401-B5B6-5F0C7A41204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54F7-11B9-4969-95EC-B573D688D78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439A-E430-44FB-9C52-6330BC153B4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DDC1-7A20-4338-94AF-9DEBF6D8B3C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3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6783-B214-4045-8E55-83379CDE684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3A5B-5622-4C67-B6A0-F1BAF4C4898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Content Placeholder 4" descr=""/>
          <p:cNvPicPr/>
          <p:nvPr/>
        </p:nvPicPr>
        <p:blipFill>
          <a:blip r:embed="rId2"/>
          <a:stretch/>
        </p:blipFill>
        <p:spPr>
          <a:xfrm>
            <a:off x="838080" y="1185840"/>
            <a:ext cx="10515600" cy="141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"/>
          <p:cNvPicPr/>
          <p:nvPr/>
        </p:nvPicPr>
        <p:blipFill>
          <a:blip r:embed="rId3"/>
          <a:stretch/>
        </p:blipFill>
        <p:spPr>
          <a:xfrm>
            <a:off x="10914120" y="-17640"/>
            <a:ext cx="1266840" cy="993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/>
          <p:cNvPicPr/>
          <p:nvPr/>
        </p:nvPicPr>
        <p:blipFill>
          <a:blip r:embed="rId4"/>
          <a:stretch/>
        </p:blipFill>
        <p:spPr>
          <a:xfrm>
            <a:off x="203040" y="6176880"/>
            <a:ext cx="464508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855D-41BB-47DF-A920-A40AEABC717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Oval 1"/>
          <p:cNvSpPr/>
          <p:nvPr/>
        </p:nvSpPr>
        <p:spPr>
          <a:xfrm>
            <a:off x="8529480" y="3170160"/>
            <a:ext cx="3662640" cy="3687840"/>
          </a:xfrm>
          <a:prstGeom prst="ellipse">
            <a:avLst/>
          </a:prstGeom>
          <a:solidFill>
            <a:srgbClr val="e7e6e6">
              <a:alpha val="62000"/>
            </a:srgbClr>
          </a:solidFill>
          <a:ln w="12600">
            <a:solidFill>
              <a:srgbClr val="a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t’s throw clay on the pottery whe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Activity: Putting It Into Practi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49240" y="2327400"/>
            <a:ext cx="518184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lan to use your program’s curriculum to support each child’s development and learn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3" descr="A young girl standing in a room&#10;&#10;Description automatically generated"/>
          <p:cNvPicPr/>
          <p:nvPr/>
        </p:nvPicPr>
        <p:blipFill>
          <a:blip r:embed="rId1"/>
          <a:stretch/>
        </p:blipFill>
        <p:spPr>
          <a:xfrm>
            <a:off x="7077240" y="2327400"/>
            <a:ext cx="411480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3T18:58:56Z</dcterms:created>
  <dc:creator>Microsoft Office User</dc:creator>
  <dc:description/>
  <dc:language>en-US</dc:language>
  <cp:lastModifiedBy>Treshawn Anderson</cp:lastModifiedBy>
  <dcterms:modified xsi:type="dcterms:W3CDTF">2020-04-20T20:22:09Z</dcterms:modified>
  <cp:revision>78</cp:revision>
  <dc:subject/>
  <dc:title>Implementing a Curriculum Responsive to Children’s Strengths and N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ge Range">
    <vt:lpwstr/>
  </property>
  <property fmtid="{D5CDD505-2E9C-101B-9397-08002B2CF9AE}" pid="3" name="Approvers">
    <vt:lpwstr/>
  </property>
  <property fmtid="{D5CDD505-2E9C-101B-9397-08002B2CF9AE}" pid="4" name="Audience">
    <vt:lpwstr/>
  </property>
  <property fmtid="{D5CDD505-2E9C-101B-9397-08002B2CF9AE}" pid="5" name="Audiences">
    <vt:lpwstr/>
  </property>
  <property fmtid="{D5CDD505-2E9C-101B-9397-08002B2CF9AE}" pid="6" name="ComplianceAssetId">
    <vt:lpwstr/>
  </property>
  <property fmtid="{D5CDD505-2E9C-101B-9397-08002B2CF9AE}" pid="7" name="ContentTypeId">
    <vt:lpwstr>0x0101001B4C0ACEA8DAF04D970A1715B66301EA</vt:lpwstr>
  </property>
  <property fmtid="{D5CDD505-2E9C-101B-9397-08002B2CF9AE}" pid="8" name="DocumentStatus">
    <vt:lpwstr>Manager Review</vt:lpwstr>
  </property>
  <property fmtid="{D5CDD505-2E9C-101B-9397-08002B2CF9AE}" pid="9" name="National Conference">
    <vt:lpwstr/>
  </property>
  <property fmtid="{D5CDD505-2E9C-101B-9397-08002B2CF9AE}" pid="10" name="Order">
    <vt:r8>667600</vt:r8>
  </property>
  <property fmtid="{D5CDD505-2E9C-101B-9397-08002B2CF9AE}" pid="11" name="Region">
    <vt:lpwstr/>
  </property>
  <property fmtid="{D5CDD505-2E9C-101B-9397-08002B2CF9AE}" pid="12" name="SharedWithUsers">
    <vt:lpwstr/>
  </property>
  <property fmtid="{D5CDD505-2E9C-101B-9397-08002B2CF9AE}" pid="13" name="TaxCatchAll">
    <vt:lpwstr/>
  </property>
  <property fmtid="{D5CDD505-2E9C-101B-9397-08002B2CF9AE}" pid="14" name="TemplateUrl">
    <vt:lpwstr/>
  </property>
  <property fmtid="{D5CDD505-2E9C-101B-9397-08002B2CF9AE}" pid="15" name="TopicArea">
    <vt:lpwstr/>
  </property>
  <property fmtid="{D5CDD505-2E9C-101B-9397-08002B2CF9AE}" pid="16" name="Topic_Area">
    <vt:lpwstr/>
  </property>
  <property fmtid="{D5CDD505-2E9C-101B-9397-08002B2CF9AE}" pid="17" name="Webinar">
    <vt:lpwstr/>
  </property>
  <property fmtid="{D5CDD505-2E9C-101B-9397-08002B2CF9AE}" pid="18" name="Year Vetted">
    <vt:lpwstr/>
  </property>
  <property fmtid="{D5CDD505-2E9C-101B-9397-08002B2CF9AE}" pid="19" name="b172363ec58b499dad30d2b09a8896e0">
    <vt:lpwstr/>
  </property>
  <property fmtid="{D5CDD505-2E9C-101B-9397-08002B2CF9AE}" pid="20" name="ec3caad0312d4c2bb9f97715ae0cf85a">
    <vt:lpwstr/>
  </property>
  <property fmtid="{D5CDD505-2E9C-101B-9397-08002B2CF9AE}" pid="21" name="fcbb0cf91974408394499761fa7977d2">
    <vt:lpwstr/>
  </property>
  <property fmtid="{D5CDD505-2E9C-101B-9397-08002B2CF9AE}" pid="22" name="g5cbabc475af428e8a4b767b325afa7b">
    <vt:lpwstr/>
  </property>
  <property fmtid="{D5CDD505-2E9C-101B-9397-08002B2CF9AE}" pid="23" name="k112b48b8b0842abbe71d39765b03e81">
    <vt:lpwstr/>
  </property>
  <property fmtid="{D5CDD505-2E9C-101B-9397-08002B2CF9AE}" pid="24" name="lc402643ecbf4499b639d533dae17ca9">
    <vt:lpwstr/>
  </property>
  <property fmtid="{D5CDD505-2E9C-101B-9397-08002B2CF9AE}" pid="25" name="m467fd03801e42aeb7355f8ac300c17b">
    <vt:lpwstr/>
  </property>
  <property fmtid="{D5CDD505-2E9C-101B-9397-08002B2CF9AE}" pid="26" name="o04817ec836b43088d222d88b97d0ffb">
    <vt:lpwstr/>
  </property>
  <property fmtid="{D5CDD505-2E9C-101B-9397-08002B2CF9AE}" pid="27" name="p22cc5a201e14acc82f079247ea5c295">
    <vt:lpwstr/>
  </property>
  <property fmtid="{D5CDD505-2E9C-101B-9397-08002B2CF9AE}" pid="28" name="xd_ProgID">
    <vt:lpwstr/>
  </property>
  <property fmtid="{D5CDD505-2E9C-101B-9397-08002B2CF9AE}" pid="29" name="xd_Signature">
    <vt:bool>0</vt:bool>
  </property>
</Properties>
</file>