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63B-3A5D-4327-AB1F-58D427BB2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Icebreake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4D4E-8372-4A4B-98CF-EF53F9AB0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Learnin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4AEA-AD28-491C-9A6F-6B6A04E41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2A1A9-28B2-4575-8D23-9B51A3B4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A2BDE-88F6-44AF-A030-E1FF368F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4C305-8757-46E2-A1A2-72E5231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F0285-2B13-467E-A40B-ABEC6729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B72DA-728D-46BF-BDDF-5FCA179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A942F-72A9-4503-B1BD-A0F3E62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5DEED-353A-4D2D-8038-D0F127E5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ED68D-8904-49D9-9D36-2C56B61A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8671A-FE2E-42F9-BAA8-0FA7919E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7EC6B-D480-4EC8-88A2-BD49FB14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1998C-919C-45AD-96D7-B9CA34C4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A1BC8-4F4A-4391-8FCD-CDF0EE48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DDEC4-6368-4B9F-ACFB-D01BBE38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6535A-1DAE-4A59-8E4F-1B6B0101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84CE2-789B-4FA4-9FE4-189AD8A9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0BC00-7590-4528-851C-20D5428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F9E7A-F450-4684-877B-A239BE19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58E13-6F7D-4AE6-A6DF-BED07C6F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FA7F3-535F-46B0-88BE-88D939C4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A20DB-8F12-4B57-AF3B-D726E32F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A8E23-814E-445A-9016-C3FFAD3F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E29-1579-4920-B180-802588D5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9AD-1B72-4F06-9CDD-B567EC6B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D03-B1A1-4702-97F2-F3D0BE15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4B1-4F01-4C17-96AC-7C7AF284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12A-A998-4F94-B627-84A4F04F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13A-85A6-4EA3-A069-D6055D2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311-C0E5-4C57-8785-E1BF306F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BE2-1C8B-472D-9708-2298841A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4B3-DF15-45A1-8039-BDA783F4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2D5C-0860-487F-BCC7-B537B266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EE0-2198-4921-9FE9-C8646299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A6C-5639-4A98-9BEE-3E2CB885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2FD2-E885-4861-A6FC-0616742B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F7DA-CB21-459F-A55B-A7C9698A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3C8B-AA17-40C6-A03B-986FB21B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0AAB-BF55-4569-86E0-7D4F906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3E64-D23A-44FC-95EB-A4DDBB7D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0F29-28C3-4E8C-B74C-50DDBBB8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D3E8-BCA8-4DD7-94E0-5F70DA7F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8A68-73FC-4F94-B5F4-57331F3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BB1B-3AD0-46FF-9D82-3F896BD6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84D6-ADE2-4DDB-B259-8B61F554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CD9B-7AEC-4C89-A52A-AE6E0EBA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5BED-F636-453A-B4DD-15DA4B96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3BF8B-5C31-49F9-96A8-B968C3B3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1B9BE-CC05-4EA7-B0EE-2A732478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259C-0811-4F6A-BE91-24AB4E8E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07470-A65A-4612-87BE-B058679D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3B51-372A-4D10-BF3B-913BB576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638E-D83B-4F28-A347-E9B62ED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CA50-1CC8-4C8B-B069-6BC1C0D8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A7CB-AE73-4ACD-8DBE-91D4F3F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07BA-02B6-4F7B-B07A-2868EA7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916A-9073-4957-8680-DCAEC9E1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F8FC-3073-4606-85D3-F8029B74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FF8AB-0997-4575-AE32-82232E95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AE4D4-C993-4AF9-A5F2-DAF50B4F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FB18-B7CC-4C46-A96E-E9A62B14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99B6E-F943-4D5A-981A-C973103A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E38DA-1FCB-4162-BF8F-7BFE2307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EE7F-962C-40B9-9153-22ECDA8C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6ECC-B86E-4348-B943-D2F79F26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D24BE-60BA-4262-9E08-909F9E1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5DF7-9912-41BB-98E1-DA03C634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79C06-95ED-414E-975E-2C31F050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8082-5716-4051-A34B-5D7E3B5E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CF9E8-A745-4E60-A1B6-0994CB87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394D-5E8A-4D8E-8422-AE8F693C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0B89A-137F-4ACC-B87E-DA6B8966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6E8CD-1856-40FF-8952-BAC39E42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DF8A2-0737-4C1E-AA78-09AA91E0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1F351-A05E-4E61-8745-B7EA18AB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7E97-4F74-4AEF-B205-3D923C85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52AD6-B885-4E3F-B8A9-F82649CF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B8F8-3468-4F43-A5E0-A89668D4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42684-8921-4BE9-8FE1-819F86D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4E021-7164-4158-A3EA-4CD389F3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E5C26-7436-497B-9555-6D79A738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1E30A-BBC4-4EBF-9F6B-B42B1612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55DE6-1E3B-47B1-8578-42F9A222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C5C5A-AFBC-431D-A306-5915FCBD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C3BB-29CA-4570-89FA-4E74068E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7BA29-17D1-4A7E-AE76-7F187258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F40A7-D119-49D1-A645-E0C34963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6F609-0DBA-432D-92F6-6E6A2693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7413A-3D3C-4D32-8482-09066364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A5DA-C8B5-40CC-A2AA-B19F5D7B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BD03A-F502-4516-B3D5-408C73E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4952C-1F93-425A-A593-B2B81014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196FA-75C6-423C-AC11-87C1AB46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5FABA-87C2-4FE2-AD23-4BAF909C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B4A79-F7DD-490F-89AB-36E565C5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630E5-332E-4477-A7E4-FCD0F55D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78D2B-310F-4A7B-80CF-1BFE7D11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D3906-DF8C-4E34-B531-A57FD9AE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8374B-716E-4E67-BC80-8DD74A73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89246-837B-4B47-B6BD-0B1675EB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7035-5494-498E-90A6-B9B4DEAF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30D45-1022-4E3C-97A7-BCEE50BB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755AF-9231-430F-811B-8851729B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10D47-EE06-4522-8699-90E5149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CB346-3744-4973-9E62-609AD67B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F817-255B-41C4-8EFD-D99980DB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A9476-DF5D-4727-8982-9A05C200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62A61-679F-4258-9DB7-17A282B3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2C548-890E-4E81-8690-CD235039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A78DA-7D41-4E8A-9A9A-5FFBF474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0"/>
            <a:ext cx="949320" cy="6858000"/>
          </a:xfrm>
          <a:prstGeom prst="rect">
            <a:avLst/>
          </a:prstGeom>
          <a:solidFill>
            <a:srgbClr val="186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B5C3-B17D-4B4C-B333-134B7C9C703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0"/>
          <p:cNvSpPr/>
          <p:nvPr/>
        </p:nvSpPr>
        <p:spPr>
          <a:xfrm>
            <a:off x="1198440" y="0"/>
            <a:ext cx="10993680" cy="960480"/>
          </a:xfrm>
          <a:prstGeom prst="rect">
            <a:avLst/>
          </a:prstGeom>
          <a:solidFill>
            <a:srgbClr val="15a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2" descr=""/>
          <p:cNvPicPr/>
          <p:nvPr/>
        </p:nvPicPr>
        <p:blipFill>
          <a:blip r:embed="rId2"/>
          <a:stretch/>
        </p:blipFill>
        <p:spPr>
          <a:xfrm>
            <a:off x="0" y="6531120"/>
            <a:ext cx="3286080" cy="326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3"/>
          <p:cNvSpPr/>
          <p:nvPr/>
        </p:nvSpPr>
        <p:spPr>
          <a:xfrm>
            <a:off x="1084320" y="6531120"/>
            <a:ext cx="11107800" cy="326880"/>
          </a:xfrm>
          <a:prstGeom prst="rect">
            <a:avLst/>
          </a:prstGeom>
          <a:solidFill>
            <a:srgbClr val="47c0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0" y="0"/>
            <a:ext cx="1203480" cy="960480"/>
          </a:xfrm>
          <a:prstGeom prst="rect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3"/>
          <a:stretch/>
        </p:blipFill>
        <p:spPr>
          <a:xfrm>
            <a:off x="174600" y="104760"/>
            <a:ext cx="889200" cy="750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"/>
          <p:cNvPicPr/>
          <p:nvPr/>
        </p:nvPicPr>
        <p:blipFill>
          <a:blip r:embed="rId2"/>
          <a:stretch/>
        </p:blipFill>
        <p:spPr>
          <a:xfrm>
            <a:off x="10925280" y="0"/>
            <a:ext cx="1266840" cy="993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8" descr=""/>
          <p:cNvPicPr/>
          <p:nvPr/>
        </p:nvPicPr>
        <p:blipFill>
          <a:blip r:embed="rId3">
            <a:alphaModFix amt="61000"/>
          </a:blip>
          <a:stretch/>
        </p:blipFill>
        <p:spPr>
          <a:xfrm>
            <a:off x="0" y="632304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C684-BBCC-47A3-9A56-7C15965233A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E7E8-78F4-4F82-A6BC-99E2D22ACA2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00D6-D692-477F-9EF1-0398DBEC895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A6DE-2FED-45F5-9901-055E266AEEB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E17E-7AF1-4C43-8CDB-868D4CCF140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67CB-9277-4737-BF32-63918837326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C9F9-5277-4B30-8D30-81F2DF70872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E67D-1C0C-49E6-A329-C29C5C77026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Oval 1"/>
          <p:cNvSpPr/>
          <p:nvPr/>
        </p:nvSpPr>
        <p:spPr>
          <a:xfrm>
            <a:off x="8529480" y="3170160"/>
            <a:ext cx="3662640" cy="3687840"/>
          </a:xfrm>
          <a:prstGeom prst="ellipse">
            <a:avLst/>
          </a:prstGeom>
          <a:solidFill>
            <a:srgbClr val="e7e6e6">
              <a:alpha val="62000"/>
            </a:srgbClr>
          </a:solidFill>
          <a:ln w="1260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throw clay on the pottery whe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utting It Into Practi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120680" y="2390760"/>
            <a:ext cx="5181840" cy="27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 how you can use your home-based curriculum to help a family support their child’s development and learn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Content Placeholder 5" descr="A person sitting at a table&#10;&#10;Description automatically generated"/>
          <p:cNvPicPr/>
          <p:nvPr/>
        </p:nvPicPr>
        <p:blipFill>
          <a:blip r:embed="rId1"/>
          <a:stretch/>
        </p:blipFill>
        <p:spPr>
          <a:xfrm>
            <a:off x="6823080" y="1943280"/>
            <a:ext cx="4816440" cy="34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18:58:56Z</dcterms:created>
  <dc:creator>Microsoft Office User</dc:creator>
  <dc:description/>
  <dc:language>en-US</dc:language>
  <cp:lastModifiedBy>Allyson Dean</cp:lastModifiedBy>
  <dcterms:modified xsi:type="dcterms:W3CDTF">2020-02-16T20:06:39Z</dcterms:modified>
  <cp:revision>66</cp:revision>
  <dc:subject/>
  <dc:title>Implementing a Curriculum Responsive to Children’s Strengths and N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ge Range">
    <vt:lpwstr/>
  </property>
  <property fmtid="{D5CDD505-2E9C-101B-9397-08002B2CF9AE}" pid="3" name="Approvers">
    <vt:lpwstr/>
  </property>
  <property fmtid="{D5CDD505-2E9C-101B-9397-08002B2CF9AE}" pid="4" name="Audience">
    <vt:lpwstr/>
  </property>
  <property fmtid="{D5CDD505-2E9C-101B-9397-08002B2CF9AE}" pid="5" name="Audiences">
    <vt:lpwstr/>
  </property>
  <property fmtid="{D5CDD505-2E9C-101B-9397-08002B2CF9AE}" pid="6" name="ComplianceAssetId">
    <vt:lpwstr/>
  </property>
  <property fmtid="{D5CDD505-2E9C-101B-9397-08002B2CF9AE}" pid="7" name="ContentTypeId">
    <vt:lpwstr>0x0101001B4C0ACEA8DAF04D970A1715B66301EA</vt:lpwstr>
  </property>
  <property fmtid="{D5CDD505-2E9C-101B-9397-08002B2CF9AE}" pid="8" name="DocumentStatus">
    <vt:lpwstr>Manager Review</vt:lpwstr>
  </property>
  <property fmtid="{D5CDD505-2E9C-101B-9397-08002B2CF9AE}" pid="9" name="National Conference">
    <vt:lpwstr/>
  </property>
  <property fmtid="{D5CDD505-2E9C-101B-9397-08002B2CF9AE}" pid="10" name="Order">
    <vt:r8>670100</vt:r8>
  </property>
  <property fmtid="{D5CDD505-2E9C-101B-9397-08002B2CF9AE}" pid="11" name="Region">
    <vt:lpwstr/>
  </property>
  <property fmtid="{D5CDD505-2E9C-101B-9397-08002B2CF9AE}" pid="12" name="SharedWithUsers">
    <vt:lpwstr/>
  </property>
  <property fmtid="{D5CDD505-2E9C-101B-9397-08002B2CF9AE}" pid="13" name="TaxCatchAll">
    <vt:lpwstr/>
  </property>
  <property fmtid="{D5CDD505-2E9C-101B-9397-08002B2CF9AE}" pid="14" name="TemplateUrl">
    <vt:lpwstr/>
  </property>
  <property fmtid="{D5CDD505-2E9C-101B-9397-08002B2CF9AE}" pid="15" name="TopicArea">
    <vt:lpwstr/>
  </property>
  <property fmtid="{D5CDD505-2E9C-101B-9397-08002B2CF9AE}" pid="16" name="Topic_Area">
    <vt:lpwstr/>
  </property>
  <property fmtid="{D5CDD505-2E9C-101B-9397-08002B2CF9AE}" pid="17" name="Webinar">
    <vt:lpwstr/>
  </property>
  <property fmtid="{D5CDD505-2E9C-101B-9397-08002B2CF9AE}" pid="18" name="Year Vetted">
    <vt:lpwstr/>
  </property>
  <property fmtid="{D5CDD505-2E9C-101B-9397-08002B2CF9AE}" pid="19" name="b172363ec58b499dad30d2b09a8896e0">
    <vt:lpwstr/>
  </property>
  <property fmtid="{D5CDD505-2E9C-101B-9397-08002B2CF9AE}" pid="20" name="ec3caad0312d4c2bb9f97715ae0cf85a">
    <vt:lpwstr/>
  </property>
  <property fmtid="{D5CDD505-2E9C-101B-9397-08002B2CF9AE}" pid="21" name="fcbb0cf91974408394499761fa7977d2">
    <vt:lpwstr/>
  </property>
  <property fmtid="{D5CDD505-2E9C-101B-9397-08002B2CF9AE}" pid="22" name="g5cbabc475af428e8a4b767b325afa7b">
    <vt:lpwstr/>
  </property>
  <property fmtid="{D5CDD505-2E9C-101B-9397-08002B2CF9AE}" pid="23" name="k112b48b8b0842abbe71d39765b03e81">
    <vt:lpwstr/>
  </property>
  <property fmtid="{D5CDD505-2E9C-101B-9397-08002B2CF9AE}" pid="24" name="lc402643ecbf4499b639d533dae17ca9">
    <vt:lpwstr/>
  </property>
  <property fmtid="{D5CDD505-2E9C-101B-9397-08002B2CF9AE}" pid="25" name="m467fd03801e42aeb7355f8ac300c17b">
    <vt:lpwstr/>
  </property>
  <property fmtid="{D5CDD505-2E9C-101B-9397-08002B2CF9AE}" pid="26" name="o04817ec836b43088d222d88b97d0ffb">
    <vt:lpwstr/>
  </property>
  <property fmtid="{D5CDD505-2E9C-101B-9397-08002B2CF9AE}" pid="27" name="p22cc5a201e14acc82f079247ea5c295">
    <vt:lpwstr/>
  </property>
  <property fmtid="{D5CDD505-2E9C-101B-9397-08002B2CF9AE}" pid="28" name="xd_ProgID">
    <vt:lpwstr/>
  </property>
  <property fmtid="{D5CDD505-2E9C-101B-9397-08002B2CF9AE}" pid="29" name="xd_Signature">
    <vt:bool>0</vt:bool>
  </property>
</Properties>
</file>